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1F7B2-8252-441F-A471-B653DF609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38E1C-0DD9-4E9E-9298-0D8E5AD2B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AD911-F829-46F2-BC77-7DA7148AE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F8DED-A64E-44CB-AB48-F6F29D4CC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F104B-31E4-462E-8061-62227E9AE9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C1C81-F0EC-49D6-87E1-4EAA0120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37F30-0228-4D79-B824-32E1EDDFF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DC31F-4968-4B58-9932-C3A89590E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1278B-F1E0-4DE0-B630-B0E55DAF2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8F791-37C6-40CE-8120-061E0E961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6FFCC-8BEA-4ADE-BF51-02A983F6B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59F56-2CAB-45E3-B654-B01AE49A2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DA765-4074-41B6-99EC-37065DCF1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E0EBA-7C82-4B49-BAE5-0B7C3A71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07704-A43C-41BD-9F05-325808DA1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08B86-B29A-44CD-B782-5B7E2FBC8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F2386-6F96-4412-9010-F10AB93EB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27175-92BF-46F6-AFC1-127B7B21B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DE7BA-FBB1-43B0-8A39-96203C5BA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88DEC-2254-411D-9334-5720CF45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5F0E9-5C50-48FB-AFA7-57E30B56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31240-7D9A-4177-AFD5-EE3C2A740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DD5CE-1A43-4167-ACE8-049D64D72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5580F-1E61-4A8B-BA21-2E338F8B2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ADA4-C0CE-4A74-ADCB-7E6DFA356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Verdana"/>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Verdana"/>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Verdana"/>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Verdana"/>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Verdana"/>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0A22-7955-4953-9A62-414E779C972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Economic Systems</a:t>
            </a:r>
            <a:endParaRPr b="0" lang="en-US" sz="5100" spc="-1" strike="noStrike">
              <a:solidFill>
                <a:srgbClr val="c4c3aa"/>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F 30 – Unit 2 Economic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isadvantages</a:t>
            </a:r>
            <a:endParaRPr b="0" lang="en-US" sz="4400" spc="-1" strike="noStrike">
              <a:solidFill>
                <a:srgbClr val="c4c3aa"/>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sumer needs may not be met</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ard work is not rewarded</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ecessary decision-making bureaucracy delays decision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ttle flexibility to deal with day-to-day problems</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d individual initiative goes unrewarde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 </a:t>
            </a:r>
            <a:endParaRPr b="0" lang="en-US" sz="4400" spc="-1" strike="noStrike">
              <a:solidFill>
                <a:srgbClr val="c4c3aa"/>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the 1990s, many countries, especially in Eastern Europe, moved from command economies toward market economies. What problems do you think they faced as they made this change? </a:t>
            </a:r>
            <a:endParaRPr b="0" lang="en-US" sz="3200" spc="-1" strike="noStrike">
              <a:solidFill>
                <a:srgbClr val="ffffff"/>
              </a:solidFill>
              <a:latin typeface="Verdana"/>
            </a:endParaRPr>
          </a:p>
        </p:txBody>
      </p:sp>
      <p:sp>
        <p:nvSpPr>
          <p:cNvPr id="353" name="Text Box 5"/>
          <p:cNvSpPr/>
          <p:nvPr/>
        </p:nvSpPr>
        <p:spPr>
          <a:xfrm>
            <a:off x="1523880" y="38088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Question</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a:t>
            </a:r>
            <a:endParaRPr b="0" lang="en-US" sz="4400" spc="-1" strike="noStrike">
              <a:solidFill>
                <a:srgbClr val="c4c3aa"/>
              </a:solidFill>
              <a:latin typeface="Arial"/>
            </a:endParaRPr>
          </a:p>
        </p:txBody>
      </p:sp>
      <p:sp>
        <p:nvSpPr>
          <p:cNvPr id="3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what ways are traditional and command economies alike? In what ways are they different?</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n both, production decisions are already made and individual initiative is discouraged. In traditional economies, the individual’s role is defined by customs, while in command economies, a central authority defines the individual’s ro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Arial"/>
              </a:rPr>
              <a:t> </a:t>
            </a:r>
            <a:r>
              <a:rPr b="0" lang="en-US" sz="4400" spc="-1" strike="noStrike">
                <a:solidFill>
                  <a:srgbClr val="c4c3aa"/>
                </a:solidFill>
                <a:latin typeface="Arial"/>
              </a:rPr>
              <a:t>Market Economies</a:t>
            </a:r>
            <a:endParaRPr b="0" lang="en-US" sz="4400" spc="-1" strike="noStrike">
              <a:solidFill>
                <a:srgbClr val="c4c3aa"/>
              </a:solidFill>
              <a:latin typeface="Arial"/>
            </a:endParaRPr>
          </a:p>
        </p:txBody>
      </p:sp>
      <p:sp>
        <p:nvSpPr>
          <p:cNvPr id="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market economy, producers and consumers determine WHAT, HOW, and FOR WHOM to produce. In each market transaction, the consumer’s dollar acts like a “vote,”. </a:t>
            </a:r>
            <a:endParaRPr b="0" lang="en-US" sz="3200" spc="-1" strike="noStrike">
              <a:solidFill>
                <a:srgbClr val="ffffff"/>
              </a:solidFill>
              <a:latin typeface="Verdana"/>
            </a:endParaRPr>
          </a:p>
        </p:txBody>
      </p:sp>
      <p:pic>
        <p:nvPicPr>
          <p:cNvPr id="358" name="Picture 4" descr=""/>
          <p:cNvPicPr/>
          <p:nvPr/>
        </p:nvPicPr>
        <p:blipFill>
          <a:blip r:embed="rId1"/>
          <a:stretch/>
        </p:blipFill>
        <p:spPr>
          <a:xfrm>
            <a:off x="0" y="4191120"/>
            <a:ext cx="9144000" cy="266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amples include Canada, the United States, Japan, South Korea, Singapore, and parts of Western Europe. </a:t>
            </a:r>
            <a:endParaRPr b="0" lang="en-US" sz="3200" spc="-1" strike="noStrike">
              <a:solidFill>
                <a:srgbClr val="ffffff"/>
              </a:solidFill>
              <a:latin typeface="Verdana"/>
            </a:endParaRPr>
          </a:p>
        </p:txBody>
      </p:sp>
      <p:pic>
        <p:nvPicPr>
          <p:cNvPr id="361" name="Picture 4" descr=""/>
          <p:cNvPicPr/>
          <p:nvPr/>
        </p:nvPicPr>
        <p:blipFill>
          <a:blip r:embed="rId1"/>
          <a:stretch/>
        </p:blipFill>
        <p:spPr>
          <a:xfrm>
            <a:off x="0" y="3657600"/>
            <a:ext cx="914400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0"/>
            <a:ext cx="9144000" cy="6858000"/>
          </a:xfrm>
          <a:prstGeom prst="rect">
            <a:avLst/>
          </a:prstGeom>
          <a:ln w="0">
            <a:noFill/>
          </a:ln>
        </p:spPr>
      </p:pic>
      <p:sp>
        <p:nvSpPr>
          <p:cNvPr id="36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advantages</a:t>
            </a:r>
            <a:endParaRPr b="0" lang="en-US" sz="4400" spc="-1" strike="noStrike">
              <a:solidFill>
                <a:srgbClr val="c4c3aa"/>
              </a:solidFill>
              <a:latin typeface="Arial"/>
            </a:endParaRPr>
          </a:p>
        </p:txBody>
      </p:sp>
      <p:sp>
        <p:nvSpPr>
          <p:cNvPr id="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bility to adjust to change</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 degree of individual freedom </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small degree of government involvement</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bility to have a voice in the economy</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variety of goods and services created</a:t>
            </a:r>
            <a:endParaRPr b="0" lang="en-US" sz="2800" spc="-1" strike="noStrike">
              <a:solidFill>
                <a:srgbClr val="ffffff"/>
              </a:solidFill>
              <a:latin typeface="Verdana"/>
            </a:endParaRPr>
          </a:p>
          <a:p>
            <a:pPr marL="343080" indent="-343080">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high degree of consumer satisfac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isadvantages</a:t>
            </a:r>
            <a:endParaRPr b="0" lang="en-US" sz="4400" spc="-1" strike="noStrike">
              <a:solidFill>
                <a:srgbClr val="c4c3aa"/>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lude the inability of the market to meet every person’s basic needs.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adequate job of providing some highly valued services such as justice, education, and health care.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gh level of personal uncertainty and the prospect of economic failur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FYI</a:t>
            </a:r>
            <a:endParaRPr b="0" lang="en-US" sz="4400" spc="-1" strike="noStrike">
              <a:solidFill>
                <a:srgbClr val="c4c3aa"/>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Canada, individuals usually make their own economic decisions. Sometimes, however, the government makes choices that override individual decisions. During World War II, for example, the government limited the production of certain goods to focus on the war efforts instea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Traditional Economies </a:t>
            </a:r>
            <a:endParaRPr b="0" lang="en-US" sz="4400" spc="-1" strike="noStrike">
              <a:solidFill>
                <a:srgbClr val="c4c3aa"/>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traditional economy, roles and economic decisions are defined by custom. </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amples include the central African Mbuti, the Australian Aborigines, and northern Canada’s Inuit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pic>
        <p:nvPicPr>
          <p:cNvPr id="33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Advantages</a:t>
            </a:r>
            <a:endParaRPr b="0" lang="en-US" sz="4400" spc="-1" strike="noStrike">
              <a:solidFill>
                <a:srgbClr val="c4c3aa"/>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dvantages of a traditional economy is that everyone knows which role to play and there is little uncertainty about WHAT, HOW, and FOR WHOM to produ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isadvantages</a:t>
            </a: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isadvantage of a traditional economy is the discouragement of new ideas and new ways of thinking. This leads to a lower standard of living than in other societie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Question</a:t>
            </a:r>
            <a:endParaRPr b="0" lang="en-US" sz="4400" spc="-1" strike="noStrike">
              <a:solidFill>
                <a:srgbClr val="c4c3aa"/>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w would your life be different if you had grown up in a traditional econom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ommand Economies </a:t>
            </a:r>
            <a:endParaRPr b="0" lang="en-US" sz="4400" spc="-1" strike="noStrike">
              <a:solidFill>
                <a:srgbClr val="c4c3aa"/>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a command economy, a central authority determines WHAT, HOW, and FOR WHOM to produc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mmand economies include North Korea, Cuba, the former Soviet Un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Advantages</a:t>
            </a:r>
            <a:endParaRPr b="0" lang="en-US" sz="4400" spc="-1" strike="noStrike">
              <a:solidFill>
                <a:srgbClr val="c4c3aa"/>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bility to drastically change direction in a relatively short period of time</a:t>
            </a:r>
            <a:endParaRPr b="0" lang="en-US" sz="3200" spc="-1" strike="noStrike">
              <a:solidFill>
                <a:srgbClr val="ffffff"/>
              </a:solidFill>
              <a:latin typeface="Verdana"/>
            </a:endParaRPr>
          </a:p>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y basic health and public services are available at little or no cos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48" name="Picture 8" descr="Image result for command economy"/>
          <p:cNvPicPr/>
          <p:nvPr/>
        </p:nvPicPr>
        <p:blipFill>
          <a:blip r:embed="rId1"/>
          <a:stretch/>
        </p:blipFill>
        <p:spPr>
          <a:xfrm>
            <a:off x="2023920" y="1057320"/>
            <a:ext cx="5096160" cy="509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6T01:17:53Z</dcterms:created>
  <dc:creator>Heather Morris</dc:creator>
  <dc:description/>
  <dc:language>en-US</dc:language>
  <cp:lastModifiedBy>Amy Mcfarlen</cp:lastModifiedBy>
  <dcterms:modified xsi:type="dcterms:W3CDTF">2016-09-26T22:26:36Z</dcterms:modified>
  <cp:revision>8</cp:revision>
  <dc:subject/>
  <dc:title>Economic Systems</dc:title>
</cp:coreProperties>
</file>